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84E-A130-404C-9996-CC0D058B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827-5ACE-4822-9560-28EE8498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F7A-7806-4E05-9270-F195DFAA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620-7014-4F7C-8B69-054330B2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7E84-A854-4324-B9AE-2C77D32C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4302-35E1-481A-A57E-EAB4D266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B8D9-D3E4-425F-A33D-EFAB7DE1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55A4-303B-4A61-AB11-1E8DB7FD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D96E-E637-466E-9B6B-EF6E4D15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C390-B4DC-4292-B0B4-69D4D6BF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3F91-2E09-4559-8A39-60B8AF8B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558-5D4A-44CA-97A1-8B77BCB9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093B-DCA7-41EA-8644-F2DBF403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6E98-D186-4209-A2B8-08807A5A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7856-2AC1-43E7-928A-428097E2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B3AE-7563-4A84-BD5D-322BE346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2AF1-8F41-48C9-A9A1-B8986858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8CF-7B67-4D4E-9FE2-620B73C1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4F5-7204-4285-AA2A-BACEDFC2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E3F-DB0C-460F-9835-3277C546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988-90EA-408B-AC31-B5D04174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770-BECE-479C-BB03-5B9E276D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8FF-00D0-417C-8EE9-DF9F04A2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450-6A8D-4F79-867F-41D4C646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3B61-BBDD-4931-A64D-3C882F66D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4FE6-281F-4778-A3AE-0CAE6DF0A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john@isc-ltd.co.uk" TargetMode="External"/><Relationship Id="rId2" Type="http://schemas.openxmlformats.org/officeDocument/2006/relationships/hyperlink" Target="http://www.isc-ltd.co.uk/presentations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xample1.htm" TargetMode="External"/><Relationship Id="rId2" Type="http://schemas.openxmlformats.org/officeDocument/2006/relationships/hyperlink" Target="file:///example1.sas" TargetMode="External"/><Relationship Id="rId3" Type="http://schemas.openxmlformats.org/officeDocument/2006/relationships/hyperlink" Target="file:///example1.log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xample2.log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 Graphical Elements in S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Kirkpatr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ight Statistical Consulting Lt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age siz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ault size is 640 pixels by 480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pect ratio is 4: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default be changed in SAS 9.1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w options in SAS 9.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ange re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ds html /image_dpi=30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e this is destination 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ange width and h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ds graphics on/width=10in height=8c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only one dimension specified, aspect ratio is p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ising graph appearance: bas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ur recommended sty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a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ur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s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html style=jour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3: Recommended sty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html(1) file=‘example3_default.htm’ gpath=‘example3’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    </a:t>
            </a: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style=default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html(2) file=‘example3_journal.htm’ gpath=‘example3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    </a:t>
            </a: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style=journal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html(3) file=‘example3_statistical.htm’ gpath=‘example3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    </a:t>
            </a: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style=statistical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html(4) file=‘example3_analysis.htm’ gpath=‘example3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          </a:t>
            </a: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style=analysis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graphics 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exclude ResidualHistogram ... ResidualPanel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roc reg data=sashelp.class plots(unpackpanels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model weight=height ag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ru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efault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Journal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atis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ising graph appearance: advanc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yle_pop doesn’t help to identify sty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investigate style definition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phical style el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ing styles.rtf as an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aphColours in Styles.RT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aphFonts in Styles.Pr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maining Graphxxxx in Styles.Defa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is is the most useful one to 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yout definitions use a new 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edit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4: customising graph appeara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PROC GLM and SASHELP.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ression of weight on height and s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user modifiable ti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plot symb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riginal co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523880"/>
            <a:ext cx="8534160" cy="48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ods listing clos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ods html file="example4a.htm" gpath="example4a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ods graphics 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ods trace 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proc glm data=sashelp.clas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class sex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model weight = height sex height*sex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ru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ods html clos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Source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HTML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ding the right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k in the log for ODS TRAC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Output Add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Name:     ANCOVAP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Label:    ANCOVA P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AS Monospace"/>
              </a:rPr>
              <a:t>Template: Stat.GLM.Graphics.ANCOVAP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Path:     GLM.ANOVA.Weight.ANCOVAP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ising the title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define statgraph Stat.GLM.Graphics.AncovaPlot;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mvar _AncovaTitle;</a:t>
            </a: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* EntryTitle "Analysis of Covariance";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EntryTitle _AncovaTitl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EntryTitle "Fitted regression indicated 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             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solid lines, data points b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             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symbols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ru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219320" y="3429000"/>
            <a:ext cx="4192560" cy="2130480"/>
            <a:chOff x="1219320" y="3429000"/>
            <a:chExt cx="4192560" cy="2130480"/>
          </a:xfrm>
        </p:grpSpPr>
        <p:sp>
          <p:nvSpPr>
            <p:cNvPr id="127" name=""/>
            <p:cNvSpPr/>
            <p:nvPr/>
          </p:nvSpPr>
          <p:spPr>
            <a:xfrm>
              <a:off x="1366560" y="4800600"/>
              <a:ext cx="38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Dynamic title: can be chang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19320" y="4570560"/>
              <a:ext cx="4192560" cy="988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828800" y="3429000"/>
              <a:ext cx="15238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09920" y="2438280"/>
            <a:ext cx="2134080" cy="990720"/>
            <a:chOff x="7009920" y="2438280"/>
            <a:chExt cx="2134080" cy="990720"/>
          </a:xfrm>
        </p:grpSpPr>
        <p:sp>
          <p:nvSpPr>
            <p:cNvPr id="131" name=""/>
            <p:cNvSpPr/>
            <p:nvPr/>
          </p:nvSpPr>
          <p:spPr>
            <a:xfrm>
              <a:off x="7466040" y="259092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xed tit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2438280"/>
              <a:ext cx="1752480" cy="7621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009920" y="2819520"/>
              <a:ext cx="38124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DS 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ion of graphical output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 delivery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 embedded in destina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arate graphic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tical 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 from, say, PROC GL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eed for separate PROC GP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ising the title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AS Monospace"/>
              </a:rPr>
              <a:t>ods path (prepend) work.templat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ods html file="test.htm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AS Monospace"/>
              </a:rPr>
              <a:t>ods graphics 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AS Monospace"/>
              </a:rPr>
              <a:t>%let _AncovaTitle=Regression of weight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AS Monospace"/>
              </a:rPr>
              <a:t>                  </a:t>
            </a:r>
            <a:r>
              <a:rPr b="0" lang="en-GB" sz="2400" spc="-1" strike="noStrike">
                <a:solidFill>
                  <a:srgbClr val="ffff00"/>
                </a:solidFill>
                <a:latin typeface="SAS Monospace"/>
              </a:rPr>
              <a:t>height and sex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Source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HTML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ising the plot symbols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286000"/>
            <a:ext cx="7848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 Monospace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proc templa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define style myDefault/store=work.templa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    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parent=styles.defaul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    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style graphdata1 from graphdata1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   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markersymbol="Venus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    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style graphdata2 from graphdat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   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markersymbol="Mars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end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ru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ising the plot symbols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362320"/>
            <a:ext cx="7391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ods html file="example4c.htm"</a:t>
            </a: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style=MyDefaul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SAS Monospace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SAS Monospace"/>
              </a:rPr>
              <a:t>gpath="example4c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Source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HTML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SAS Monospace"/>
              </a:rPr>
              <a:t>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pport for ODS 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s by proced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8 procedures in SAS 9.1 (STAT, ETS, HPF, 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4 procedures in SAS 9.2 (STAT, ETS, Base, HPF, QC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online documentation for each procedure for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unde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DS Graphic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– Experiment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mised for SAS 9.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LISTING destination (GI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t 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ics Template Language (GT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your own p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S Graph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ve editing of grap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line doc for SAS 9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tistical Graphics using 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troduction to ODS for statistical graphics in SAS 9.1.  Rodriguez. SUGI 29 (paper 204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ing statistical graphics in SAS 9.2: what every statistical user should know. Rodriguez and Balan. SUGI 31 (paper 19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programmer’s introduction to the Graphics Template Language.  Cartier.  SUGI 31 (paper 26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y contact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ohn Kirkpatri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sight Statistical Consulting L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ile Ba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Haden R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lat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UNTINGDON PE28 5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l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+44 (0) 1487 83083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mail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john@isc-ltd.co.u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eb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isc-ltd.co.uk/presentation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(code, slides and tex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al in SAS 9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S/STAT licence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ion in 9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S/Graph licence needed a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S graphics in SAS/QC may be experi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 possible 1-2Q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ic approa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phical objects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ested by ODS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ustomis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DS styles and templ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cedure statements and o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lid for HTML, LaTex, PRINTER and RTF dest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first 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ression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* Prevent over-writing output in future examples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html file=‘regression1.htm’ </a:t>
            </a: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gpath=‘example’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* Enable ODS graph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ods graphics on;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SAS Monospace"/>
              </a:rPr>
              <a:t>proc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SAS Monospace"/>
              </a:rPr>
              <a:t>reg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data=sashelp.clas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model weight=height ag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SAS Monospace"/>
              </a:rPr>
              <a:t>run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html clos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ml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Sourc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og fi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aphics objects are standard ODS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utput Add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Name:       DiagnosticsPa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Label:      Fit Diagnos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Template:   Stat.REG.Graphics.DiagnosticsPa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ath:       Reg.MODEL1.ObswiseStats.Weight.DiagnosticPlots.DiagnosticsPa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 2: selecting graph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rst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can’t select on ODS GRAPH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ods exclude ResidualHistogram ResidualByPredi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            </a:t>
            </a: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RStudentByPredicted ActualByPredi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            </a:t>
            </a: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CooksD RStudentByLeverage RFPlot ResidualPanel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proc reg data=sashelp.class </a:t>
            </a:r>
            <a:r>
              <a:rPr b="0" lang="en-GB" sz="1600" spc="-1" strike="noStrike">
                <a:solidFill>
                  <a:srgbClr val="ffff00"/>
                </a:solidFill>
                <a:latin typeface="SAS Monospace"/>
              </a:rPr>
              <a:t>plots(unpackpanels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AS Monospace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model weight=height ag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ru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Log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aming graphics fi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fault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DS graph name (from ODS TRACE) plus index counter eg QQPlot1, QQPlot2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custom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graphics on/imagename=‘MyImageName’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et the cou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graphics on/rese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graphics on/imagename=‘MySecondImageName’ rese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warning when files are overwrit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age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TF, PS, PDF and P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ages stored within the output fi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separate image fi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IF (default in SAS 9.1), JPEG, PNG (default in SAS 9.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S (default), EPSI, GIF, JPEG, P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ange from defaul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 Monospace"/>
              </a:rPr>
              <a:t>ods graphics on/imagefmt=pn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2T12:50:32Z</dcterms:created>
  <dc:creator>John Kirkpatrick</dc:creator>
  <dc:description/>
  <dc:language>en-US</dc:language>
  <cp:lastModifiedBy>John Kirkpatrick</cp:lastModifiedBy>
  <dcterms:modified xsi:type="dcterms:W3CDTF">2006-09-04T10:53:59Z</dcterms:modified>
  <cp:revision>8</cp:revision>
  <dc:subject/>
  <dc:title>New Graphical Elements in SAS</dc:title>
</cp:coreProperties>
</file>