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2E7-E07C-4CE6-A48A-E51E9200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B90-60A4-4428-8F2B-88D81EC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F50-911F-4766-9F13-DE1B2068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1EB-862C-4B7C-8670-9D4D046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65D5-C6B8-4B09-BD09-5FE78F6E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212-9093-42E4-A744-5B9D4911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1976-89B8-4CDB-ADAE-603054B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6C21-23FA-4D5D-8016-7974BAA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33C-79DB-4A9C-B6B4-29A82B7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DCB0-8E0D-4877-BAD8-FB98F828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9373-A02D-450B-9ACA-B04A6C03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BDE-2BF5-4DAD-AAB2-2292AAE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624-6294-40FB-B953-294C9A0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A14E-8D20-4E7D-882E-4A751BB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1124-F8F0-41ED-832C-CB773AF3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067-749F-41AD-9A4D-F48601B0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375-AAA0-4F3C-9103-20810E6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1A0-9777-4494-A1BF-9C0D743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619-562D-450D-989D-E318725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6AA-0066-4C8D-A0F6-53E7D9C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DF3-337B-4F53-B334-986E52CD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1D4-49D4-4508-8497-8A9D546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0FF-8863-4919-8468-E51EDC55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692-DB81-4748-8A43-E5886AC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7A5-7358-4AB0-8ABD-241C076C5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5711-62F7-40F2-98C7-00FE7029A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basic_event_map.txt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block%20titles.sas" TargetMode="External"/><Relationship Id="rId2" Type="http://schemas.openxmlformats.org/officeDocument/2006/relationships/hyperlink" Target="file:///block%20titles.log" TargetMode="External"/><Relationship Id="rId3" Type="http://schemas.openxmlformats.org/officeDocument/2006/relationships/hyperlink" Target="file:///block_titles.htm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reinstate_titles1.sas" TargetMode="External"/><Relationship Id="rId2" Type="http://schemas.openxmlformats.org/officeDocument/2006/relationships/hyperlink" Target="file:///reinstate_titles1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tagsets to provide customised output: a tutori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outpu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doc operator="John" sasversion="9.1" saslongversion="9.01.01M3P07282004" date="2005-08-17" time="11:07:05" encoding="windows-1252" event_name="doc" trigger_name="attr_out" class="Body" index="IDX" just="c"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0512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94920" y="160020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outpu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doc operator="John" sasversion="9.1" saslongversion="9.01.01M3P07282004" date="2005-08-17" time="11:07:05" encoding="windows-1252" event_name="doc" trigger_name="attr_out" class="Body" index="IDX" just="c"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all variables are defined for all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05120"/>
            <a:ext cx="685800" cy="4572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1905120"/>
            <a:ext cx="14475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09680"/>
            <a:ext cx="6858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94920" y="1600200"/>
            <a:ext cx="30492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23920" y="1752480"/>
            <a:ext cx="17528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95520" y="1828800"/>
            <a:ext cx="8384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outpu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doc operator="John" sasversion="9.1" saslongversion="9.01.01M3P07282004" date="2005-08-17" time="11:07:05" encoding="windows-1252" event_name="doc" trigger_name="attr_out" class="Body" index="IDX" just="c"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all variables are defined for all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685800" cy="4572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905120"/>
            <a:ext cx="1447560" cy="4572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2209680"/>
            <a:ext cx="68580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94920" y="1600200"/>
            <a:ext cx="30492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723920" y="1752480"/>
            <a:ext cx="1752840" cy="2286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095520" y="1828800"/>
            <a:ext cx="838440" cy="3808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2666880"/>
            <a:ext cx="1371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2438280"/>
            <a:ext cx="7621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114440" y="304812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3048120"/>
            <a:ext cx="121896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outpu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system_title_setup_group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title_setup_container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title_setup_container_specs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title_setup_container_spec ...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/title_setup_container_spec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title_setup_container_row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system_title_setup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/system_title_setu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/title_setup_container_row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/title_setup_contain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&lt;/system_title_setup_grou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s can generate other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pe of variables akin to macro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733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Indentation indicates nesting of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ing an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events look like they deal with system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their definition in tagsets.phtml.  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break /if exists(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%nrstr("&amp;nbsp;") /if exists( emp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124080"/>
            <a:ext cx="19814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971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Define an event.  Syntax similar to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3124080"/>
            <a:ext cx="13716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ing an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events look like they deal with system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their definition in tagsets.phtml.  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break /if exists(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%nrstr("&amp;nbsp;") /if exists( emp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124080"/>
            <a:ext cx="198144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971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an event.  Syntax similar to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66880" y="3124080"/>
            <a:ext cx="137160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657600"/>
            <a:ext cx="1828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3429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33"/>
                </a:solidFill>
                <a:latin typeface="Times New Roman"/>
              </a:rPr>
              <a:t>Write to the markup dest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95480" y="3581280"/>
            <a:ext cx="9144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ing an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events look like they deal with system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their definition in tagsets.phtml.  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break /if exists(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%nrstr("&amp;nbsp;") /if exists( emp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124080"/>
            <a:ext cx="198144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971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Define an event.  Syntax similar to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66880" y="3124080"/>
            <a:ext cx="137160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65760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429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Times New Roman"/>
              </a:rPr>
              <a:t>Write to the markup dest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95480" y="3581280"/>
            <a:ext cx="9144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25146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Fire another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504960" y="411444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ing an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events look like they deal with system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their definition in tagsets.phtml.  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break /if exists(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%nrstr("&amp;nbsp;") /if exists( emp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124080"/>
            <a:ext cx="198144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971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Define an event.  Syntax similar to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666880" y="3124080"/>
            <a:ext cx="137160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365760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429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Times New Roman"/>
              </a:rPr>
              <a:t>Write to the markup dest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95480" y="3581280"/>
            <a:ext cx="9144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886200"/>
            <a:ext cx="2514600" cy="38088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Fire another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504960" y="4114440"/>
            <a:ext cx="53316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724280"/>
            <a:ext cx="37339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4343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onditional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571640" y="45720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ing an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events look like they deal with system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t their definition in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tagsets.p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 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break /if exists(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%nrstr("&amp;nbsp;") /if exists( emp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124080"/>
            <a:ext cx="198144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971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Define an event.  Syntax similar to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3124080"/>
            <a:ext cx="137160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65760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3429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Times New Roman"/>
              </a:rPr>
              <a:t>Write to the markup dest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895480" y="3581280"/>
            <a:ext cx="9144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886200"/>
            <a:ext cx="2514600" cy="38088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Fire another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504960" y="4114440"/>
            <a:ext cx="53316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4724280"/>
            <a:ext cx="373392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343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Conditional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1640" y="4572000"/>
            <a:ext cx="228600" cy="2286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257800"/>
            <a:ext cx="12952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Event s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133720" y="5409720"/>
            <a:ext cx="21333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 concept: event sta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s can have two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in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also b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te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to be executed depends on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out this tutori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’s not realistic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mplex way to do something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it’s 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keeping the objective simple, I hope to focus on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d on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tagsets.p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Tagsets.rtf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ould be better, but it doesn’t exist (y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urning to the </a:t>
            </a:r>
            <a:r>
              <a:rPr b="0" lang="en-GB" sz="3600" spc="-1" strike="noStrike">
                <a:solidFill>
                  <a:srgbClr val="ffcc66"/>
                </a:solidFill>
                <a:latin typeface="SAS Monospace"/>
              </a:rPr>
              <a:t>system_title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ev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define event system_titl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put "&lt;h1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trigger alig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put "&gt;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put 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break /if exists( valu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put %nrstr("&amp;nbsp;") /if                   exists( empt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put "&lt;/h1&gt;" N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&lt;h1&gt;[title tex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tart stat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&lt;/h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inish state,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&lt;h1&gt;[title text]&lt;/h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ll.  This is standard HTML code for a 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our titles needs two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them to within the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 the HTML code so they look 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 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 the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 the </a:t>
            </a:r>
            <a:r>
              <a:rPr b="0" lang="en-US" sz="2400" spc="-1" strike="noStrike">
                <a:solidFill>
                  <a:srgbClr val="ffffff"/>
                </a:solidFill>
                <a:latin typeface="SAS Monospace"/>
              </a:rPr>
              <a:t>system_ti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agset strea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rarily redirects output from the destination to a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essentially unlimited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one stream open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s persist until stream is destroy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us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a stre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ne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n a stream immediately before the first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system_tit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ose a stream immediately after the last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system_tit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System_title_group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the obvious </a:t>
            </a:r>
            <a:r>
              <a:rPr b="0" lang="en-GB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lac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do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defined in tagsets.phtml, so code is sim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d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roc templa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tagset myHTML/store=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arent=tagsets.p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log_note="Using the myHTML tagset created 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&amp;systime on &amp;sysdate9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event system_title_grou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pen tstrea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path (prepend) 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markup type=myHTML file="work.htm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d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roc templa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tagset myHTML/store=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arent=tagsets.p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log_note="Using the myHTML tagset created 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&amp;systime on &amp;sysdate9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event system_title_grou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pen tstrea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path (prepend) 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markup type=myHTML file="work.htm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181240"/>
            <a:ext cx="1828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280" y="2438280"/>
            <a:ext cx="3047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3124080"/>
            <a:ext cx="1828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243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Syntax as for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819520" y="2285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86200" y="259092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3200" y="2590920"/>
            <a:ext cx="26668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d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roc templa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tagset myHTML/store=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arent=tagsets.p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log_note="Using the myHTML tagset created 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&amp;systime on &amp;sysdate9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event system_title_grou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pen tstrea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path (prepend) 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markup type=myHTML file="work.htm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18124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280" y="2438280"/>
            <a:ext cx="304776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12408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581280"/>
            <a:ext cx="2057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43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yntax as for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Open and name a stream before first system_titl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819520" y="2285640"/>
            <a:ext cx="259056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6200" y="2590920"/>
            <a:ext cx="144792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43200" y="2590920"/>
            <a:ext cx="2666880" cy="6094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124080" y="3657600"/>
            <a:ext cx="5335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d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roc templa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tagset myHTML/store=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arent=tagsets.p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log_note="Using the myHTML tagset created 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&amp;systime on &amp;sysdate9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event system_title_grou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pen tstrea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path (prepend) 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markup type=myHTML file="work.htm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18124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0280" y="2438280"/>
            <a:ext cx="304776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12408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3581280"/>
            <a:ext cx="20574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403848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243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yntax as for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Open and name a stream before first system_titl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lose (the only active) stream after last system_titl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819520" y="2285640"/>
            <a:ext cx="259056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886200" y="2590920"/>
            <a:ext cx="144792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43200" y="2590920"/>
            <a:ext cx="2666880" cy="6094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124080" y="3657600"/>
            <a:ext cx="53352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285640" y="4191120"/>
            <a:ext cx="60948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d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roc templa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tagset myHTML/store=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arent=tagsets.p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log_note="Using the myHTML tagset created 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&amp;systime on &amp;sysdate9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define event system_title_grou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pen tstrea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path (prepend) work.tagse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ods markup type=myHTML file="work.htm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18124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280" y="2438280"/>
            <a:ext cx="304776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124080"/>
            <a:ext cx="18288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581280"/>
            <a:ext cx="20574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4038480"/>
            <a:ext cx="114300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243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yntax as for styles and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Open and name a stream before first system_titl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Close (the only active) stream after last system_titl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5181480"/>
            <a:ext cx="46483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33"/>
                </a:solidFill>
                <a:latin typeface="Times New Roman"/>
              </a:rPr>
              <a:t>Make tagset available and use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819520" y="2285640"/>
            <a:ext cx="259056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886200" y="2590920"/>
            <a:ext cx="144792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43200" y="2590920"/>
            <a:ext cx="2666880" cy="6094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124080" y="3657600"/>
            <a:ext cx="533520" cy="76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285640" y="4191120"/>
            <a:ext cx="609480" cy="3045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181480" y="502920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Code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Lo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the titles reappe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the stream in an event that creates the table h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Table_hea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the obvious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S Monospac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table_he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head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putstream tstrea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head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419720"/>
            <a:ext cx="34290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06480" y="44956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Emit the contents of the str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648320" y="4572000"/>
            <a:ext cx="7617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410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Code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Log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xample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proc sort data=sashelp.class out=clas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by sex nam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ds listing clos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ds markup </a:t>
            </a: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type=</a:t>
            </a:r>
            <a:r>
              <a:rPr b="1" lang="en-GB" sz="1400" spc="-1" strike="noStrike">
                <a:solidFill>
                  <a:srgbClr val="ff0033"/>
                </a:solidFill>
                <a:latin typeface="Courier New"/>
              </a:rPr>
              <a:t>tagsets.phtml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file="</a:t>
            </a:r>
            <a:r>
              <a:rPr b="0" lang="en-GB" sz="1400" spc="-1" strike="noStrike">
                <a:solidFill>
                  <a:srgbClr val="ff0033"/>
                </a:solidFill>
                <a:latin typeface="Courier New"/>
              </a:rPr>
              <a:t>basic_output.ht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proc print data=clas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r age height weigh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id sex nam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by sex nam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title1 "The contents of the SASHELP.Class dataset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title2 "sorted by Sex and Name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ootnote1 "First footnote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ootnote2 "Second footnote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ootnote3 "Third footnote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ru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ds markup close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733920"/>
            <a:ext cx="220968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only changes will be to the code in 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ormatting the tit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ify the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system_tit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S Monospac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define event system_tit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tr&gt;&lt;th scope=colgroup colspan=5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value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/th&gt;&lt;/tr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3352680"/>
            <a:ext cx="13716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67320" y="419112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Note hard-coded value.  Not a generic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37339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Log 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urning to the footn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ing the titles meant delaying the appearance of the titl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ing the footnotes means bringing the footnote text 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’t capture necessary text in a 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a different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ting footnotes on same line needs an extra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otnote ev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similar to tit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System_footer_gro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aps calls to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system_foo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call to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system_foo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each footn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 and end row in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system_footer_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 and end each table cell in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system_foo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 m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ating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system_footer_grou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S Monospac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define event system_footer_grou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tr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/tr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difying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system_foot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define event system_foot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"&lt;h1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trigger alig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"&lt;/h1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define event system_foot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td&gt;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put "&lt;/td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Log 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ing the footnotes into the t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ti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trigger desired events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 unwanted events inst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likely to run into problems this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 concept: blocking ev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s can b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 an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b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locked event will not run even when explicitly triggered in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block the end of the table (and the end of the output) until after we’ve written the foot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_bod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o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1840" y="5638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 m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ocking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table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 outpu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define event table_bod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"&lt;tbody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ut "&lt;/tbody&gt;" N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block tab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block outpu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we must trigger table and output eventually to ensure that the HTML file is well-form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ggering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tabl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outpu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system_footer_grou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unblock t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unblock outp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trigger table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trigger output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lping browsers display the 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system_footer_grou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trigger table_foot star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trigger table_foot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unblock t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unblock outp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table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output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2590920"/>
            <a:ext cx="1600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1981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33"/>
                </a:solidFill>
                <a:latin typeface="Times New Roman"/>
              </a:rPr>
              <a:t>Event exists in tagsets.phtml, but is never trigg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962520" y="2286000"/>
            <a:ext cx="18288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Log 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What is a tag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ffcc66"/>
                </a:solidFill>
                <a:latin typeface="Times New Roman"/>
              </a:rPr>
              <a:t>tags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a set of rules that defines what SAS does when creating a mar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ffcc66"/>
                </a:solidFill>
                <a:latin typeface="Times New Roman"/>
              </a:rPr>
              <a:t>markup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“A set of labels that are embedded within text to distinguish elements or groups of elements for display or identification purposes.  The labels are commonly known as tags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maining probl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neous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tnotes still unt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moving the extraneous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w of unexpected consequenc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2286000"/>
            <a:ext cx="670572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AS Monospace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fine event pre_pos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PRE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q "&lt;img alt="""" src=" PREIMAG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$empty_tag_suffix /if exists( PREIMAG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"&gt;" /if exists( PREIMAG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PRETEX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finish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POSTEX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q "&lt;img alt="""" src=" POSTIMAG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$empty_tag_suffix /if exists( POSTIMAG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"&gt;" /if exists( POSTIMAG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put POSTHTM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S Monospace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876920"/>
            <a:ext cx="1828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56760" y="43815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Deleting this line fixed the probl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48120" y="4572000"/>
            <a:ext cx="1752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ormatting the footn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S Monospace"/>
              </a:rPr>
              <a:t>System_foo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vent doesn’t know which footnote is being cre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work it out for our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 variable in </a:t>
            </a:r>
            <a:r>
              <a:rPr b="0" lang="en-US" sz="2400" spc="-1" strike="noStrike">
                <a:solidFill>
                  <a:srgbClr val="ffffff"/>
                </a:solidFill>
                <a:latin typeface="SAS Monospace"/>
              </a:rPr>
              <a:t>system_footer_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 it in </a:t>
            </a:r>
            <a:r>
              <a:rPr b="0" lang="en-US" sz="2400" spc="-1" strike="noStrike">
                <a:solidFill>
                  <a:srgbClr val="ffffff"/>
                </a:solidFill>
                <a:latin typeface="SAS Monospace"/>
              </a:rPr>
              <a:t>system_foo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5520" y="5791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 m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ating a user vari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system_footer_grou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table_foot star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eval $jk_index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r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table_foot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unblock t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unblock outp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table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trigger output finis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crementing the new vari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system_foo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eval $jk_index $jk_index + 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d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ditional exec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define event system_foo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val $jk_index $jk_index + 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t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put " colspan=2" /if $jk_index ge 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put " align='center'" /if $jk_index eq 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put " align='right'" /if $jk_index eq 3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gt;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put "&lt;/td&gt;" N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S Monospace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771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Log 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culsions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gsets offer huge scope for customisation, far beyond that offered by styles and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lexibility goes hand in hand with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gsets are new and changed greatly between SAS Version 8.2 and SAS 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arning curve i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cumentation is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st reference is www.support.sas.com/rnd/base/topics/odsmarkup/tagsets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TF tagset awaited with great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y contact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ile Ba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Haden 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lat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TINGDON PE28 5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44 (0) 1487 8308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huse2005@isc-ltd.co.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eb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ww.isc-ltd.co.uk/presentations (code, slides and tex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efore and after out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66760" y="503280"/>
            <a:ext cx="32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66760" y="503280"/>
            <a:ext cx="32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523880"/>
          <a:ext cx="2610000" cy="50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261000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166760" y="503280"/>
            <a:ext cx="32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486400" y="1523880"/>
          <a:ext cx="2476440" cy="501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523880"/>
                    <a:ext cx="247644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66760" y="503280"/>
            <a:ext cx="32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172200"/>
            <a:ext cx="320040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447920"/>
            <a:ext cx="34290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amples of marku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gs are &lt;HTML&gt;, &lt;/HTML&gt;, &lt;b&gt;, &lt;/b&gt;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ow does SAS use tagset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DS generates a series of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agset defines the response to each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HTML tagset should produce “&lt;HTML&gt;” to a “start new document” event and “&lt;/b&gt;” to a “turn bolding off now”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Why are tagsets importan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 of event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vent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s extensions to SAS not imagined by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wor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Flexibilit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ewing ev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the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tagsets.event_map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ag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ods markup type=tagsets.event_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           </a:t>
            </a: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file="basic_event_map.txt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destroys your output file, but shows you what’s going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15:53Z</dcterms:created>
  <dc:creator>John Kirkpatrick</dc:creator>
  <dc:description/>
  <dc:language>en-US</dc:language>
  <cp:lastModifiedBy>John Kirkpatrick</cp:lastModifiedBy>
  <dcterms:modified xsi:type="dcterms:W3CDTF">2005-09-14T10:32:26Z</dcterms:modified>
  <cp:revision>6</cp:revision>
  <dc:subject/>
  <dc:title>Using tagsets to provide customised output: a tutorial</dc:title>
</cp:coreProperties>
</file>