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0CF-85C0-426F-98E1-839C8BA5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E15-D4E9-4A3C-B2FE-778E844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9BD-B96B-4318-B00E-55EBDAAD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3F5-C5D9-416C-8667-1FB1AF70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84CE-1CC8-49FF-BE3A-C62DEB9A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9614-EFAB-4B0F-B616-480A0F9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E375-75D2-4F52-B57D-3716A982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51A0-113F-4472-B3A5-DFF850D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A2EA-585E-462A-B0B1-250DF96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2B02-B97B-47F2-B6FE-485703A5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A6E-F2E1-47B6-B6A2-E0D98D6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A84-BBDC-4A3A-9180-AAC2461E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EA2A-86B6-40D5-A96A-B0271DB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58D-B23A-4FC8-80EA-3392DF7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653B-9527-4B82-B581-47176D25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959-3EC1-4B6C-BECD-2A194C5C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6858-823E-435B-A059-577BCDCC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7A5-01F3-4520-B401-9225444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232-6B74-46EE-BBAF-79958C78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75C-D620-41DD-99DC-2F648DA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D0A-92D5-4213-B254-679BDAA6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DE9-F2F3-4614-AAD1-5BA9935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674-AC51-4519-A548-87FF0F8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CEF-2E4B-4766-B7E1-EB9A858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EE2-BEA2-4739-9388-FCCC1B38D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A5D0-9675-4D49-AB4E-A024DC37E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nicode.org/charts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_demog.rt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mailto:phuse2005@isc-ltd.co.uk" TargetMode="External"/><Relationship Id="rId2" Type="http://schemas.openxmlformats.org/officeDocument/2006/relationships/hyperlink" Target="http://www.isc-ltd.co.uk/presentation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portunities for efficiency created by the 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1 : AE li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1828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wo tables on one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2284560"/>
            <a:ext cx="457200" cy="1508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676160" y="2286000"/>
            <a:ext cx="306360" cy="5335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752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Different numbers of records per su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ext wra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3048120"/>
            <a:ext cx="30456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502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Superscri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181480" y="3352320"/>
            <a:ext cx="1219320" cy="16765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1 : AE li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1828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wo tables on one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2284560"/>
            <a:ext cx="457200" cy="1508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160" y="2286000"/>
            <a:ext cx="306360" cy="5335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1752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Different numbers of records per su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ext wra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962520" y="3048120"/>
            <a:ext cx="30456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791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Footnotes adjacent to table 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10280" y="5105160"/>
            <a:ext cx="1067040" cy="6858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5029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Superscri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81480" y="3352320"/>
            <a:ext cx="1219320" cy="16765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chmarking the ODS 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pr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statement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,500 lines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S (v8.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 statement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0 lines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ct 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S (SAS 9 – gue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to 15 statement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-40 lines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715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tails discussed l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non-standard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21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3733920"/>
            <a:ext cx="457200" cy="83808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8195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18960" y="3352680"/>
            <a:ext cx="609480" cy="4572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4280" y="2133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Spanning headers underl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95680" y="2438280"/>
            <a:ext cx="1067040" cy="3812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666880"/>
            <a:ext cx="990720" cy="30481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68560" y="51436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33"/>
                </a:solidFill>
                <a:latin typeface="Times New Roman"/>
              </a:rPr>
              <a:t>Trt B overall colu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19920" y="5029200"/>
            <a:ext cx="380880" cy="38088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2819520"/>
            <a:ext cx="609480" cy="38088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819520"/>
            <a:ext cx="533520" cy="38088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4290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Greek in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81480" y="3200040"/>
            <a:ext cx="304920" cy="304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76560" y="3200040"/>
            <a:ext cx="75960" cy="304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non-standard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210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24480" y="2666880"/>
            <a:ext cx="990720" cy="30481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68560" y="51436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33"/>
                </a:solidFill>
                <a:latin typeface="Times New Roman"/>
              </a:rPr>
              <a:t>Trt B overall colu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19920" y="5029200"/>
            <a:ext cx="380880" cy="38088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non-standard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210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24480" y="2666880"/>
            <a:ext cx="990720" cy="30481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68560" y="51436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Times New Roman"/>
              </a:rPr>
              <a:t>Trt B overall colu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019920" y="5029200"/>
            <a:ext cx="380880" cy="3808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819520"/>
            <a:ext cx="609480" cy="38088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2819520"/>
            <a:ext cx="533520" cy="38088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34290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Greek in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181480" y="3200040"/>
            <a:ext cx="304920" cy="304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876560" y="3200040"/>
            <a:ext cx="75960" cy="304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non-standard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210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14280" y="2133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Spanning headers underl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495680" y="2438280"/>
            <a:ext cx="1067040" cy="3812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666880"/>
            <a:ext cx="990720" cy="30481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68560" y="51436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Times New Roman"/>
              </a:rPr>
              <a:t>Trt B overall colu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19920" y="5029200"/>
            <a:ext cx="380880" cy="3808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2819520"/>
            <a:ext cx="609480" cy="38088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2819520"/>
            <a:ext cx="533520" cy="38088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4290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3200040"/>
            <a:ext cx="30492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876560" y="3200040"/>
            <a:ext cx="75960" cy="3049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non-standard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210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3733920"/>
            <a:ext cx="457200" cy="83808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195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218960" y="3352680"/>
            <a:ext cx="609480" cy="4572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4280" y="2133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Spanning headers underl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95680" y="2438280"/>
            <a:ext cx="1067040" cy="38124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666880"/>
            <a:ext cx="990720" cy="304812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68560" y="51436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Times New Roman"/>
              </a:rPr>
              <a:t>Trt B overall colu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019920" y="5029200"/>
            <a:ext cx="380880" cy="3808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819520"/>
            <a:ext cx="609480" cy="38088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2819520"/>
            <a:ext cx="533520" cy="38088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34290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81480" y="3200040"/>
            <a:ext cx="304920" cy="30492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876560" y="3200040"/>
            <a:ext cx="75960" cy="30492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non-standard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81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chmarking the ODS 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pr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days”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statement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0 lines gene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s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DATA _NULL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construct “text image” of 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hours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 lines total (PRO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s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PROC TABUL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FOOTNO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SAS Monospace"/>
              </a:rPr>
              <a:t>TIT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n exact 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’s in this tal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ults from a study of the feasibility of integrating ODS (v8.2) into a mature pharma report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chnical details of the solutions to some of the problems encou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 tips and tricks useful in SAS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does ODS fai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anning under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sequently sol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ank line in h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ld be solved, but solution no longer not “one proc away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umn sp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uld be solved, but solution no longer not “one proc away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ternative visual solution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g column separ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re ODS failings significan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al content is iden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appearance can be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ould standards chang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ndoning of legacy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status q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costs between USD3.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USD12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low end of cost range, AE table cost reduced from USD45000 to USD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over studies in program, programs in portfo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63244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: Newsweek (1998) cost of fixing Y2K bugs; 2: Poulin et al (1993) validated, compiled execut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don’t stop the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cruits become productive more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kill set more widel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o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DS is cor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gs belong to SAS Institu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rther flexibility in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g conversion to PD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d the study result in chang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S is a viable option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ange to corporat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roject to implement ODS-based solution for existing tem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used for new tables with no existing tem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id the study fai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porate fa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 of “implement the reques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amination of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or altern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eedback loop to suggest altern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echanism for evaluation of new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id the study fai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onal fa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ians used to defining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rs, statisticians and their managers are not entrepreneurial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DS and the freel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ggest change to my working practice, 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on information, no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change style to fit with each clients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algorithms remain unchang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s are im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do t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do that so quickl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gination in the 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 don’t do vertical measur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we don’t know where the page breaks ar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dy McNeil, SUGI 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gest weakness in 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s do ex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my TS03 presentation for 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g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w RTF code now well known from newsgroups and newsle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S 9 makes life eas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 inline formatting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\{thispage}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\{lastpage}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\{pageof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feasibility study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existing corporate tem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lates defined without reference to 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ble across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only output, not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from “reporting” procedure.  No post hoc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ecial charac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de-off between generality and 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generi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 symbol in a single destin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ry destination but only some symbo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 an example, consider writing mu: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ross all destin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use inline forma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Units= ‘^S={font_face=Symbol}m^S={}g’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protectspecialchars=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equires SAS font with required gly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re, assume SAS/GRAPH is lice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SAS font, not system f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Won’t work for every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y symbol in RT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Uni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Units = ‘\uc2\u956 mcg’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gain, set protectspecialchars=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code codes from </a:t>
            </a:r>
            <a:r>
              <a:rPr b="0" lang="en-GB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unicode.org/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sy to hide in mac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e my website for 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ishing touc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nipulat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yles &amp; formats whenever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code that is independent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2057400"/>
            <a:ext cx="838080" cy="3049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9640" y="1295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Within-table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371240" y="1600200"/>
            <a:ext cx="609480" cy="4572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33520" y="2057400"/>
            <a:ext cx="83808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89640" y="1295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Within-table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371240" y="1600200"/>
            <a:ext cx="60948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352680"/>
            <a:ext cx="457200" cy="9907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5200" y="27813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066320" y="3048120"/>
            <a:ext cx="762120" cy="4572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33520" y="2057400"/>
            <a:ext cx="83808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89640" y="1295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Within-table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371240" y="1600200"/>
            <a:ext cx="60948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3352680"/>
            <a:ext cx="457200" cy="9907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35200" y="27813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3048120"/>
            <a:ext cx="76212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4343400"/>
            <a:ext cx="838440" cy="1676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44197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Missing value” dots suppres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4724280"/>
            <a:ext cx="457200" cy="1526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feasibility study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xed Windows and Unix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tination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TF now, PDF in fut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staff training and cost of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process does not meet many of these goals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3520" y="2057400"/>
            <a:ext cx="83808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89640" y="1295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Within-table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371240" y="1600200"/>
            <a:ext cx="60948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3352680"/>
            <a:ext cx="457200" cy="9907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35200" y="27813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066320" y="3048120"/>
            <a:ext cx="76212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4343400"/>
            <a:ext cx="838440" cy="1676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44197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Missing value” dots suppres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4724280"/>
            <a:ext cx="457200" cy="152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4267080"/>
            <a:ext cx="762120" cy="1676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33526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Row-specific format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2880" y="3962520"/>
            <a:ext cx="685800" cy="83808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3520" y="2057400"/>
            <a:ext cx="83808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89640" y="1295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Within-table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371240" y="1600200"/>
            <a:ext cx="60948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3352680"/>
            <a:ext cx="457200" cy="9907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35200" y="27813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066320" y="3048120"/>
            <a:ext cx="76212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343400"/>
            <a:ext cx="838440" cy="1676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44197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Missing value” dots suppres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724280"/>
            <a:ext cx="457200" cy="152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4267080"/>
            <a:ext cx="762120" cy="1676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33526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ow-specific format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685800" cy="8380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1066680"/>
            <a:ext cx="2743200" cy="68580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Titles and footnotes adjacent to table 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866920" y="380880"/>
            <a:ext cx="838440" cy="7621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 3: A demography tab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33520" y="2057400"/>
            <a:ext cx="838080" cy="3049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89640" y="1295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Within-table h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371240" y="1600200"/>
            <a:ext cx="60948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3352680"/>
            <a:ext cx="457200" cy="9907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35200" y="27813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Category labels ind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066320" y="3048120"/>
            <a:ext cx="762120" cy="45720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343400"/>
            <a:ext cx="838440" cy="1676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441972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Missing value” dots suppres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724280"/>
            <a:ext cx="457200" cy="1526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4267080"/>
            <a:ext cx="762120" cy="1676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33526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Row-specific format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3962520"/>
            <a:ext cx="685800" cy="8380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43800" y="5638680"/>
            <a:ext cx="1143000" cy="53352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5560" y="480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Page numb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229600" y="5105520"/>
            <a:ext cx="457200" cy="5331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08240" y="62866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reek in footno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590920" y="6400440"/>
            <a:ext cx="457200" cy="15228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066680"/>
            <a:ext cx="2743200" cy="68580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itles and footnotes adjacent to table 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866920" y="380880"/>
            <a:ext cx="838440" cy="7621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51640" y="16002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Column specific cell bor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0" y="1752480"/>
            <a:ext cx="228600" cy="434340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086600" y="2133720"/>
            <a:ext cx="380880" cy="2286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ge numbering and Gree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inline formatting and Unicode as describ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w to set style attributes of a footno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efine the RTF sty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PROC TEMPLA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STYLE TempRTF/STORE=WORK.Templa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PARENT=styles.LandscapeA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STYLE SystemFooter FROM SystemFooter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PROTECTSPECIALCHARS=OFF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RU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ODS PATH (PREPEND) WORK.Templa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Times New Roman"/>
              </a:rPr>
              <a:t>ODS RTF FILE="t_demog.rtf" STYLE=TempRTF;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thin table head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 an order variable set to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NOPRI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COMPUTE BEFOR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Class/ORDER NOPRINT ORDER=DA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COMPUTE BEFORE Class/STYLE=[JUST=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FONT_WEIGHT=B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PROTECTSPECIALCHARS=OFF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LINE Class $CLSFMT.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ENDCO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ent row head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S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Times New Roman"/>
              </a:rPr>
              <a:t>DEFINE Row/DISPLAY " "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Times New Roman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Times New Roman"/>
              </a:rPr>
              <a:t>STYLE(COLUMN)=[INDENT=0.5cm CELLWIDTH=5cm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5000"/>
              </a:lnSpc>
              <a:spcBef>
                <a:spcPts val="1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S Version 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Row/DISPLAY ‘ ‘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STYLE(COLUMN)=[PROTECTSPECIALCHARS=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PRETEXT”’\tx283\tab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CELLWIDTH=5cm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ppress “missing value” do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wo stag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a format to map value to 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PROC FORMA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VALUE ForeFmt .="WHITE" OTHER="BLACK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RUN;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Use the format to define a style attrib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Pct1/DISPLAY ‘ ‘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STYLE(COLUMN)=[FOREGROUND=ForeFmt.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mats and sty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ry powerful method of creating data-driven sty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s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yle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AS Monospace"/>
              </a:rPr>
              <a:t>PROC RE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DEF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AS Monospace"/>
              </a:rPr>
              <a:t>COMPU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l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-specific forma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ee stag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a dummy variable containing both variable name and statistic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g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WeightM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ke this the left most display variable, set to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NO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-specific forma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a format mapping text values to required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VALUE $STATFMT ‘N’=‘F3.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‘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WeightMean’=‘F6.2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‘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WeightMin’=‘F5.1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‘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WeightMax’=‘F5.1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‘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WeightMedian’=‘F6.2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etc...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urrent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%print macros [Wehr (1996)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_null_ programs write raw RTF to text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ghly flex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gh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agile”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eep learning curve for new recru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-specific forma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 the format in a CALL DEFINE to set the format for the colum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DEFINE N1/DISPLAY ‘ 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STYLE=[CELLWIDTH=1.75cm JUST=DEC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COMPUTE N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CALL DEFINE(_COL_, "FORMAT"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PUT(_FmtVar, $STATFMT.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SAS Monospace"/>
                <a:ea typeface="Courier New"/>
              </a:rPr>
              <a:t>ENDCO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aders and foo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TITL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ffffff"/>
                </a:solidFill>
                <a:latin typeface="SAS Monospace"/>
              </a:rPr>
              <a:t>FOOTNO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ved into place using Word automation (see TS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X "F:\Insight\cpp\srsformat\srsformat.ex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  <a:ea typeface="Courier New"/>
              </a:rPr>
              <a:t>in=F:\Insight\presentations\PhUSE2005\TS007\t_demog.rtf"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-specific bord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so created by Word auto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X "F:\Insight\cpp\srsformat\srsformat.ex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in=F:\Insight\presentations\PhUSE2005\TS007\t_demog.rt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hsepcols=(1,2,3,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  <a:ea typeface="Courier New"/>
              </a:rPr>
              <a:t>bsepcols=(1,3,5,7)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S can create sophisticated and elegant reports to exacting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programming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ly available skill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 to organisation maximised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rs and their clients work co-opera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standards reflect technical facil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y contact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ile Ba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Haden R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lat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UNTINGDON PE28 5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+44 (0) 1487 8308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ai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phuse2005@isc-ltd.co.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eb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isc-ltd.co.uk/presentation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(slides, text, code and err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1: AE li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1 : AE li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1828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Two tables on one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2880" y="2284560"/>
            <a:ext cx="457200" cy="1508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676160" y="2286000"/>
            <a:ext cx="306360" cy="5335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1 : AE li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57200" y="1828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wo tables on one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2880" y="2284560"/>
            <a:ext cx="457200" cy="1508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76160" y="2286000"/>
            <a:ext cx="306360" cy="5335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752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Different numbers of records per su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1 : AE li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82880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Two tables on one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2880" y="2284560"/>
            <a:ext cx="457200" cy="15084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76160" y="2286000"/>
            <a:ext cx="306360" cy="5335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1752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Different numbers of records per su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Text wra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962520" y="3048120"/>
            <a:ext cx="304560" cy="5331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8:56:03Z</dcterms:created>
  <dc:creator>John Kirkpatrick</dc:creator>
  <dc:description/>
  <dc:language>en-US</dc:language>
  <cp:lastModifiedBy>John Kirkpatrick</cp:lastModifiedBy>
  <dcterms:modified xsi:type="dcterms:W3CDTF">2005-10-13T13:39:01Z</dcterms:modified>
  <cp:revision>7</cp:revision>
  <dc:subject/>
  <dc:title>Opportunities for efficiency created by the ODS</dc:title>
</cp:coreProperties>
</file>