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EF3-6C8B-4B09-B27A-F4AF878C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9C5-5E84-4C41-84AB-E8140012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9F0-758E-4756-AE8C-5C64D677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9CA-E0C9-450E-B682-0ADD0E43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EF9E-C8D7-478A-8BC4-29092361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32CC-4F9D-4628-BB57-6F9B2C12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B71F-52F6-4B7C-9F82-B8732847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B974-F40B-4335-A443-9B0C8CDA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B351-81B5-4768-B5D5-4BB1589C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0E0D-BFF5-4938-ABDD-E7908445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A6B1-C1EA-471C-9A89-8B5664E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4EC-DA55-48FC-BEBC-EFDB5990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DE6E-364E-48F3-A45C-AB11221E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8761-3C10-4CDD-9B05-8BB8C364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958B-C803-4297-99EF-72356671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9B54-880A-4FF1-BC22-45717FC0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BD48-0715-42DE-B726-E80EA9D8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807-4967-4FDA-8726-18848021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BBD-F79A-42F7-B0AE-3A8BD79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253-9BEF-434B-9F97-27071B98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692-4977-427A-94D2-45B695D5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6FE-9D31-406F-A550-1AC6E5F1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00C-A915-43F3-8239-54EDA64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E82-5DF6-4FE1-A519-BFE4FA9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2173-466D-4145-BD9A-31B59158C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AA22-48AF-4985-A1C6-A7801D13B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phuse2005@isc-ltd.co.uk" TargetMode="External"/><Relationship Id="rId2" Type="http://schemas.openxmlformats.org/officeDocument/2006/relationships/hyperlink" Target="http://www.isc-ltd.co.uk/presentations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gination in the 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Kirkpatr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ight Statistical Consu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uld SAS provide a solutio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built in function to measure 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function would n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 width for every combination of point size, font face and font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ning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 would be complex, unwieldy, high mainten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o other solutions exis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and Microsoft MFC library for C/C++ have single line solutions for visual contex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options ex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non-visual context to allow batch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ckier, but still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++ or Java: which road to take?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++ gives tighter integration with 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SAS/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S/TOOLKIT is exp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form and version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++ or Java: which road to take?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gives reasonable integration in SAS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ep JAVAOBJ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of platform and version of 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RE is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S/Java interface is a little del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Using a Java-based Paginator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DATA Violatio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/* Initialise the Paginator javaobj.  DECLARE is executable, so must do it only once!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IF _N_ EQ 1 THEN  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CLARE JAVAOBJ j ("srs/Paginator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setTableHeight", "9cm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setFont", "Arial", 9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SET Violations END=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BY Drggroup P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Using a Java-based Paginator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DATA Violatio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/* Initialise the Paginator javaobj.  DECLARE is executable, so must do it only once!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IF _N_ EQ 1 THEN  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CLARE JAVAOBJ j ("srs/Paginator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setTableHeight", "9cm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setFont", "Arial", 9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SET Violations END=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BY Drggroup P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3200400"/>
            <a:ext cx="2516040" cy="453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Class name.  Stored in JAR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943600" y="2133720"/>
            <a:ext cx="3808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Using a Java-based Paginator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DATA Violatio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/* Initialise the Paginator javaobj.  DECLARE is executable, so must do it only once!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IF _N_ EQ 1 THEN  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CLARE JAVAOBJ j ("srs/Paginator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setTableHeight", "9cm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setFont", "Arial", 9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SET Violations END=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BY Drggroup P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3505320"/>
            <a:ext cx="23623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35053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648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Class method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2819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Method parameter(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419720" y="3962520"/>
            <a:ext cx="68580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086600" y="3124080"/>
            <a:ext cx="8380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50532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5486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Method type.  Void indicates no return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590920" y="3962160"/>
            <a:ext cx="91440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Using a Java-based Paginat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/* Inform the Paginator of the text for each c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in the row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startRow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addCell", DevDet, "7.5cm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addCell", Comment, "5cm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endRow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/* Get the row height and other dimensions from the paginator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DoubleMethod("getCurrentPage", _Pag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DoubleMethod("getRowHeight", "cm", _RowHeigh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DoubleMethod("getRowHeight", "lines", _RowLine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DoubleMethod("getSpaceRemaining", "cm", _Spac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/* Delete the paginator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IF E THEN j.delet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RU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Using a Java-based Paginat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/* Inform the Paginator of the text for each c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in the row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startRow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addCell", DevDet, "7.5cm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addCell", Comment, "5cm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VoidMethod("endRow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/* Get the row height and other dimensions from the paginator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DoubleMethod("getCurrentPage", _Pag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DoubleMethod("getRowHeight", "cm", _RowHeigh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DoubleMethod("getRowHeight", "lines", _RowLine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j.callDoubleMethod("getSpaceRemaining", "cm", _Spac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/* Delete the paginator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IF E THEN j.delet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RU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4038480"/>
            <a:ext cx="8380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962520"/>
            <a:ext cx="9907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Return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Return 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324480" y="3962520"/>
            <a:ext cx="106704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981080" y="4572000"/>
            <a:ext cx="533520" cy="144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5791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Data step variables are doubles or str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Using a Java-based paginat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PROC REPORT DATA=Violations SPLIT="*" MISSIN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COLUMN </a:t>
            </a:r>
            <a:r>
              <a:rPr b="1" i="1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_Page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Drggroup PID Visit DevDet Comment Maj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("Measurement" _RowHeight _Space _RowLines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1" i="1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_Page/ORDER NOPRIN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Drggroup/ORDER ORDER=INTERNAL STYLE=[CELLWIDTH=2cm] LEF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PID/ORDER ORDER=INTERNAL STYLE=[CELLWIDTH=1.5cm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Visit/DISPLAY STYLE=[CELLWIDTH=3cm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_RowLines/DISPLAY "Row lines*(lines)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1" i="1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BREAK AFTER _Page/SUPPRESS PAG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TITLE "Listing of protocol violations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1" i="1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FOOTNOTE1 J=R "Page ^{pageof}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FOOTNOTE2 J=L ITALIC H=8pt "Program: violations.sas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FOOTNOTE3 J=L ITALIC H=8pt "Output: violations.rtf (&amp;sysdate9 &amp;systime)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RU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ODS RTF CLOS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S has always been able to create publication quality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_NULL_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%print macros [Wehr (1996)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 custom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stom solutions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supported by SAS Instit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output fi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ternatives to JAVAOBJ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ginatorCLI utility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vides command line interface for Pagin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duction jobs (JAVAOBJ is experiment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rsion 8 jo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TF measurement: 1/1440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ypical printer: 1/300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rosoft Word column width: ~1/25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ginator 1/72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rrors are always conser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Page over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Other Paginator features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cripts and superscri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j.CallVoidMethod(‘setProtectSpecialChars’, fals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nt only if FIRST.var or first on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j.CallVoidMethod(‘addIDCell’, PID, ‘1.5cm’, FIRST.PI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ced page and line brea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j.CallVoidMethod(‘startPage’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Other Paginator features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much space remai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j.CallDoubleMethod(‘getSpaceRemaining’, ‘cm’, _SpaceRemaining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’s the width given the maximum heigh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j.CallDoubleMethod(‘getWidthRequired’, Text, 3,  ‘cm’, minWidth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handle changes of font in mid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gging and debugg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ous levels of detail written to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Adding cell 4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Cell width: 7.5cm [4252.0twips]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Cell padding: 3.00pt [60.0twips]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Available width: 7.29cm [4132.0twips]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Font: Arial 9p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Display text [1, auto split]: 'ALL VISITS WERE 7 DAYS OUTSIDE THE ' [width=6.49cm, 'SCHEDULE' is 1.80cm long]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Display text [2, auto split]: 'SCHEDULE AS STUDY DRUG WAS LATE ' [width=6.49cm, 'ARRIVING' is 1.62cm long]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Display text [3, final]: 'ARRIVING AT SITE.' [width=3.03cm]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Width: 7.5cm [7.29cm allowing for padding.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Height: 37.05pt [3 lines]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Input text: ALL VISITS WERE 7 DAYS OUTSIDE THE SCHEDULE AS STUDY DRUG WAS LATE ARRIVING AT SI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Font: 9pt A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6019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This is detail level 3 of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andling the page furni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standard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TIT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 and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FOOTNO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isting code need not b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training requi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utomate Word to provide necessary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BA mac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 recommended.  Needs to reside in Normal.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 enabled application (C++ or V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Word?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’s what Word is designed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ion is easy through use of obje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ion with SAS job is straight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 com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blem: Window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networks have a Windows box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Office provides platform independent option for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Word?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Word to provide extra functiona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l-specific b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wo tables on one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gle additional line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g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X ‘F:\Insight\cpp\SRSFormat\SRSFormat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-in &amp;outdir\violations.rtf’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rst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d n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ation quality output in a variety of formats now eas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yles and formats provide very good control over appea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aining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ck of knowledge of vertical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rays HTML based origins of OD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separated from information it describ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lems with meta docu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ding cell bord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4343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601992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X ‘F:\Insight\cpp\SRSFormat\SRSFormat.exe -in &amp;outdir\violations.rtf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400" spc="-1" strike="noStrike">
                <a:solidFill>
                  <a:srgbClr val="ff0033"/>
                </a:solidFill>
                <a:latin typeface="SAS Monospace"/>
              </a:rPr>
              <a:t>-sepcols=(2,6)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’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uto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create wrapper macro to hide complexity from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umum input is dataset name, list of variables, list of column wid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yet possible to interrogate styles at run time to determine style attribute set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S ballot ent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t-in support for manual pagination is inadequ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and simple solutions ex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integration with existing workfl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y contact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ohn Kirkpatr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sight Statistical Consulting L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ile Ba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Haden R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lat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UNTINGDON PE28 5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l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+44 (0) 1487 8308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ail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phuse2005@isc-ltd.co.u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eb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isc-ltd.co.uk/presentation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(slides, text and erra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does SAS do for u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(footnotes) are written to section headers (foot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physically separated from body of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 when creating master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S RTF BODYTI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-hearted attempt to f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bugs in Version 8.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xed in SAS 9, but fix removes usefulne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 aside: the </a:t>
            </a:r>
            <a:r>
              <a:rPr b="0" lang="en-US" sz="3600" spc="-1" strike="noStrike">
                <a:solidFill>
                  <a:srgbClr val="ffcc66"/>
                </a:solidFill>
                <a:latin typeface="SAS Monospace"/>
              </a:rPr>
              <a:t>BODYTITLE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u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ODS RTF BODYTIT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OPTIONS NODATE NONUMB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reate a corrupt RTF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ork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define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styles.r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style PageNo from PageNo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font_size=0.5pt foreground=whi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style BodyDate from BodyDate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font_size=0.5pt foreground=whi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NB Can’t use </a:t>
            </a:r>
            <a:r>
              <a:rPr b="0" lang="en-US" sz="1800" spc="-1" strike="noStrike">
                <a:solidFill>
                  <a:srgbClr val="ff0033"/>
                </a:solidFill>
                <a:latin typeface="SAS Monospace"/>
              </a:rPr>
              <a:t>font_size=0pt</a:t>
            </a: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: ignored by 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long is a (piece of)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S doesn’t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rtional fo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 the characters” doesn’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ick brown fox (Times New Roman 28p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ick brown fo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rial 28p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he quick brown fo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ourier New 28p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esn’t SAS measure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hought that users would… edit the file using Word…  Since 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 don’t do vertical measur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 we don’t know where the page breaks ar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dy McNeil, SUGI 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quently, precise manual control of pagination is diffic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might SAS do for u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ch heralded RTF tagset due for release in SAS 9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ows counting observ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es not allow lines per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o parts to the pagination probl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ng and controlling the position of page brea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priately handling page furniture such as titles, footnotes and pag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16:53Z</dcterms:created>
  <dc:creator>John Kirkpatrick</dc:creator>
  <dc:description/>
  <dc:language>en-US</dc:language>
  <cp:lastModifiedBy>John Kirkpatrick</cp:lastModifiedBy>
  <dcterms:modified xsi:type="dcterms:W3CDTF">2005-09-15T11:25:44Z</dcterms:modified>
  <cp:revision>4</cp:revision>
  <dc:subject/>
  <dc:title>Pagination in the ODS</dc:title>
</cp:coreProperties>
</file>